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FC8A6C04-DA53-45CD-9ED9-5B8E53ED0277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513E633A-5767-41C1-A2AB-2BA141337F4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DC129738-3FEB-46AA-9729-1819B20246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24E651C0-09BF-4343-AF5F-59A54B6928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FC6-F881-4B7F-936D-B98D5AB6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0FA-397D-4DC8-93D2-A5D29E1D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3CF-7B8A-44C6-827C-F30F2DB6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1DF-9C0C-4CDD-8410-1BC75B31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FFAE-5BF3-455B-9FE1-AED5AFBA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A020-BCC4-4AEB-9F50-77FCAAE6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F9AF-2719-42C0-AC61-ED674761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7D65-F595-4D31-8B99-E116A98E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8FBB-6D39-4D3F-A339-12602822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6CC4-7378-47B9-9614-31FA4AD7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D1DA-0D41-4192-99B5-9F738658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A3A-6AE1-4CEA-840F-9BA9492E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150C-EB21-4C61-AA2D-ADCCABE7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FBF2-9F0A-4614-B424-64919C4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009B-BB6C-4A2E-A6D3-6CE9434C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EFBA-F335-4582-AAD2-BD40186B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D072-769D-4752-A6C9-0A121842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B508B-5E96-4DB5-AD55-5E5DB387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8EF1-F62B-4ED1-9DBC-A34D9A53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E1B4-3BAF-4AF7-AF3F-6A01370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48C1B-2B63-44E3-8C7F-32540870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78D1-72E1-47E9-AF57-6B7543B5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574-3F53-4CDB-AFAF-B895B67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A6E8-E55C-4F6E-8ABE-E205FC80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76E0-B9A2-40A6-BD7D-C5E33CF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A3E4-0B70-4C16-B71A-F49D0D6D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C527-E4C2-4E6D-B212-F15C0B40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724B-5838-4B21-B2C2-CFCCB339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66E1-C2F2-45EC-8B8A-9DDAB152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63BE-9C36-4F67-B6EB-3395334B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C93-D237-4976-94C7-3D7DA041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1B3-F45D-4A32-9939-0E8F23C5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B35-4445-4372-86D7-C45528DF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30C-39B1-41FF-9871-14E753D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DFF-1976-4B10-A678-4462925E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52B-D96E-4A35-AFF5-D0895AEB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Workshop KINGjaarcongres 06 januari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114C6-D6AA-4FE1-A289-BD8E1321C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2680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7F6DE-49D5-42AD-8C03-DF26B5F0D3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3094.1010_KING_Mast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3094.1010_KING_Mast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3094.1010_KING_Titel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22680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2E13F-62CC-4BBF-A73E-B37D0F2F1F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9280" y="3095280"/>
            <a:ext cx="66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4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Vaststelling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tUF Compliancy 2.1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voor softwareproduc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227160" y="5923080"/>
            <a:ext cx="8916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an Brinkkemp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Plaats&gt;,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Datum&gt; 201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roces melden van afw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hthoek 3"/>
          <p:cNvSpPr/>
          <p:nvPr/>
        </p:nvSpPr>
        <p:spPr>
          <a:xfrm>
            <a:off x="2354400" y="1125360"/>
            <a:ext cx="1441440" cy="935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kstvak 5"/>
          <p:cNvSpPr/>
          <p:nvPr/>
        </p:nvSpPr>
        <p:spPr>
          <a:xfrm>
            <a:off x="2138400" y="1249200"/>
            <a:ext cx="187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nvoeren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productportfolio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ftwarecatalogu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hthoek 5"/>
          <p:cNvSpPr/>
          <p:nvPr/>
        </p:nvSpPr>
        <p:spPr>
          <a:xfrm>
            <a:off x="2354400" y="3645000"/>
            <a:ext cx="1441440" cy="93636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kstvak 9"/>
          <p:cNvSpPr/>
          <p:nvPr/>
        </p:nvSpPr>
        <p:spPr>
          <a:xfrm>
            <a:off x="2138400" y="378936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Diagnose en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terugkoppeli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hthoek 7"/>
          <p:cNvSpPr/>
          <p:nvPr/>
        </p:nvSpPr>
        <p:spPr>
          <a:xfrm>
            <a:off x="2354400" y="2349360"/>
            <a:ext cx="1441440" cy="935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kstvak 12"/>
          <p:cNvSpPr/>
          <p:nvPr/>
        </p:nvSpPr>
        <p:spPr>
          <a:xfrm>
            <a:off x="2138400" y="256536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ompliancy-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teste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hthoek 9"/>
          <p:cNvSpPr/>
          <p:nvPr/>
        </p:nvSpPr>
        <p:spPr>
          <a:xfrm>
            <a:off x="2354400" y="4941720"/>
            <a:ext cx="1441440" cy="935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kstvak 15"/>
          <p:cNvSpPr/>
          <p:nvPr/>
        </p:nvSpPr>
        <p:spPr>
          <a:xfrm>
            <a:off x="2138400" y="522936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Melden herst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hthoek 11"/>
          <p:cNvSpPr/>
          <p:nvPr/>
        </p:nvSpPr>
        <p:spPr>
          <a:xfrm>
            <a:off x="4299120" y="3645000"/>
            <a:ext cx="1439640" cy="93636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kstvak 21"/>
          <p:cNvSpPr/>
          <p:nvPr/>
        </p:nvSpPr>
        <p:spPr>
          <a:xfrm>
            <a:off x="4083120" y="3716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Beoordeling en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evt. aanduidin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fwijki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hthoek 13"/>
          <p:cNvSpPr/>
          <p:nvPr/>
        </p:nvSpPr>
        <p:spPr>
          <a:xfrm>
            <a:off x="4299120" y="4941720"/>
            <a:ext cx="1439640" cy="935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kstvak 27"/>
          <p:cNvSpPr/>
          <p:nvPr/>
        </p:nvSpPr>
        <p:spPr>
          <a:xfrm>
            <a:off x="4083120" y="501336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heffen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anduidin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fwijki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hthoek 15"/>
          <p:cNvSpPr/>
          <p:nvPr/>
        </p:nvSpPr>
        <p:spPr>
          <a:xfrm>
            <a:off x="5667480" y="1125360"/>
            <a:ext cx="1439640" cy="9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kstvak 30"/>
          <p:cNvSpPr/>
          <p:nvPr/>
        </p:nvSpPr>
        <p:spPr>
          <a:xfrm>
            <a:off x="5451480" y="1197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Publicatie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ftware-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talogu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hthoek 17"/>
          <p:cNvSpPr/>
          <p:nvPr/>
        </p:nvSpPr>
        <p:spPr>
          <a:xfrm>
            <a:off x="50760" y="3068640"/>
            <a:ext cx="1440000" cy="936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kstvak 43"/>
          <p:cNvSpPr/>
          <p:nvPr/>
        </p:nvSpPr>
        <p:spPr>
          <a:xfrm>
            <a:off x="-165240" y="3284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Melden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fwijki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keraccolade 19"/>
          <p:cNvSpPr/>
          <p:nvPr/>
        </p:nvSpPr>
        <p:spPr>
          <a:xfrm>
            <a:off x="7394400" y="907920"/>
            <a:ext cx="144720" cy="129708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297080"/>
              <a:gd name="textAreaBottom" fmla="*/ 129348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36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5" name="Rechte verbindingslijn met pijl 20"/>
          <p:cNvCxnSpPr/>
          <p:nvPr/>
        </p:nvCxnSpPr>
        <p:spPr>
          <a:xfrm>
            <a:off x="3795480" y="1557000"/>
            <a:ext cx="1872360" cy="108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76" name="Rechte verbindingslijn met pijl 21"/>
          <p:cNvCxnSpPr>
            <a:stCxn id="172" idx="3"/>
          </p:cNvCxnSpPr>
          <p:nvPr/>
        </p:nvCxnSpPr>
        <p:spPr>
          <a:xfrm>
            <a:off x="1490400" y="3536640"/>
            <a:ext cx="864360" cy="54036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77" name="Rechte verbindingslijn met pijl 22"/>
          <p:cNvCxnSpPr/>
          <p:nvPr/>
        </p:nvCxnSpPr>
        <p:spPr>
          <a:xfrm>
            <a:off x="3795840" y="4076280"/>
            <a:ext cx="504000" cy="108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78" name="Rechte verbindingslijn met pijl 23"/>
          <p:cNvCxnSpPr/>
          <p:nvPr/>
        </p:nvCxnSpPr>
        <p:spPr>
          <a:xfrm>
            <a:off x="3795840" y="5373360"/>
            <a:ext cx="504000" cy="108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79" name="Gebogen verbindingslijn 61"/>
          <p:cNvCxnSpPr>
            <a:endCxn id="170" idx="2"/>
          </p:cNvCxnSpPr>
          <p:nvPr/>
        </p:nvCxnSpPr>
        <p:spPr>
          <a:xfrm flipV="1">
            <a:off x="3795840" y="2059920"/>
            <a:ext cx="2591280" cy="810360"/>
          </a:xfrm>
          <a:prstGeom prst="bentConnector2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80" name="Gebogen verbindingslijn 25"/>
          <p:cNvCxnSpPr>
            <a:endCxn id="170" idx="2"/>
          </p:cNvCxnSpPr>
          <p:nvPr/>
        </p:nvCxnSpPr>
        <p:spPr>
          <a:xfrm flipH="1" flipV="1" rot="5400000">
            <a:off x="5007960" y="2789640"/>
            <a:ext cx="2107440" cy="648360"/>
          </a:xfrm>
          <a:prstGeom prst="bentConnector3">
            <a:avLst>
              <a:gd name="adj1" fmla="val -119"/>
            </a:avLst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81" name="Gebogen verbindingslijn 26"/>
          <p:cNvCxnSpPr>
            <a:endCxn id="170" idx="2"/>
          </p:cNvCxnSpPr>
          <p:nvPr/>
        </p:nvCxnSpPr>
        <p:spPr>
          <a:xfrm flipH="1" flipV="1" rot="5400000">
            <a:off x="4360320" y="3437280"/>
            <a:ext cx="3402720" cy="648360"/>
          </a:xfrm>
          <a:prstGeom prst="bentConnector3">
            <a:avLst>
              <a:gd name="adj1" fmla="val 1682"/>
            </a:avLst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sp>
        <p:nvSpPr>
          <p:cNvPr id="182" name="Rechthoek 27"/>
          <p:cNvSpPr/>
          <p:nvPr/>
        </p:nvSpPr>
        <p:spPr>
          <a:xfrm>
            <a:off x="6980400" y="5229360"/>
            <a:ext cx="360360" cy="215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hthoek 28"/>
          <p:cNvSpPr/>
          <p:nvPr/>
        </p:nvSpPr>
        <p:spPr>
          <a:xfrm>
            <a:off x="6980400" y="5516640"/>
            <a:ext cx="360360" cy="2160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kstvak 73"/>
          <p:cNvSpPr/>
          <p:nvPr/>
        </p:nvSpPr>
        <p:spPr>
          <a:xfrm>
            <a:off x="7377120" y="5210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KIN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Leverancier e/o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drachtgev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hthoek 30"/>
          <p:cNvSpPr/>
          <p:nvPr/>
        </p:nvSpPr>
        <p:spPr>
          <a:xfrm>
            <a:off x="50760" y="4437000"/>
            <a:ext cx="1440000" cy="936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Signaal verbands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controle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6" name="Rechte verbindingslijn met pijl 31"/>
          <p:cNvCxnSpPr>
            <a:stCxn id="185" idx="3"/>
          </p:cNvCxnSpPr>
          <p:nvPr/>
        </p:nvCxnSpPr>
        <p:spPr>
          <a:xfrm flipV="1">
            <a:off x="1490400" y="4220280"/>
            <a:ext cx="864360" cy="68508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pic>
        <p:nvPicPr>
          <p:cNvPr id="187" name="Picture 2" descr=""/>
          <p:cNvPicPr/>
          <p:nvPr/>
        </p:nvPicPr>
        <p:blipFill>
          <a:blip r:embed="rId1"/>
          <a:srcRect l="62762" t="33500" r="9499" b="2810"/>
          <a:stretch/>
        </p:blipFill>
        <p:spPr>
          <a:xfrm>
            <a:off x="7467480" y="981000"/>
            <a:ext cx="14050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3424320" y="4967280"/>
            <a:ext cx="3457440" cy="1422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UF compliancy (1.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000" y="1152000"/>
            <a:ext cx="8459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oel: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uren op kwalitatief goede inbouw va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StUF standaard in softwareproducten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aarom: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UF Compliancy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isen ‘StUF compliant’ vastgesteld in StUF Regiegroep 6 april 2011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nzicht geven in StUF productportfolio (StUF Productoverzich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XML schema-validatie minimale kwaliteitse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cedure en voorwaarden om afwijkingen te melden: Gevarendriekhoekprocedure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7176960" y="4859280"/>
            <a:ext cx="905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UF compliancy 2.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4000" y="1152000"/>
            <a:ext cx="8459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d0c8b"/>
                </a:solidFill>
                <a:latin typeface="Verdana"/>
              </a:rPr>
              <a:t>Update StUF compliancy vanwege</a:t>
            </a: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UF Testplat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mma Softwarecatalog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spraken (convenant) met 80 leveranc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d0c8b"/>
                </a:solidFill>
                <a:latin typeface="Verdana"/>
              </a:rPr>
              <a:t>Aanscherping definitie ‘StUF compliant’ voor softwareproducten</a:t>
            </a: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d0c8b"/>
                </a:solidFill>
                <a:latin typeface="Verdana"/>
              </a:rPr>
              <a:t>Wijzigingen voorwaarden en procedure melden van afwijking</a:t>
            </a: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3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stel StUF Compli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4000" y="1152000"/>
            <a:ext cx="8459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ed0c8b"/>
                </a:solidFill>
                <a:latin typeface="Verdana"/>
              </a:rPr>
              <a:t>Een StUF koppeling in een softwareproduct is ‘StUF compliant’ indien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StUF koppeling voldoet aan de regels en eisen die vanuit de StUF standaard gesteld worden en van toepassing zij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 een representatieve test is uitgevoerd om de StUF koppeling te testen. Indien beschikbaar dient de standaard testset te worden gebruik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representatieve test is uitgevoerd met het voorgeschreven testinstr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resultaten van de test openbaar zijn en beschikbaar gemaakt via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6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slu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048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kkoord op beschrijving StUF Compliancy versie 2.1 dd 28 november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vangt versie 1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vanging StUF productoverzicht door GEMMA softwarecatalog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0520" y="3524400"/>
            <a:ext cx="6624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4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tUF Complianc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tandaard test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227160" y="5923080"/>
            <a:ext cx="8916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an Brinkkemp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Plaats&gt;,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Datum&gt; 201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standaardiseerde Tests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1048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ed0c8b"/>
                </a:solidFill>
                <a:latin typeface="Verdana"/>
              </a:rPr>
              <a:t>Operatie NUP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anvullende compliancy instrumen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standaardiseerde test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ed0c8b"/>
                </a:solidFill>
                <a:latin typeface="Verdana"/>
              </a:rPr>
              <a:t>Proces van opstellen en vaststellen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estset beschrijft testscope en testscenario’s op basis van een standa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ING stelt testset op voor belangrijke gemeentelijke ketens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zoals Top10 OperatieNU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levante leveranciers beoordelen en verbeteren test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ING stelt testset v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Gebruik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anciers gebruiken standaard testset om compliancy tests uit te vo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standaardiseerde Tests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1048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ed0c8b"/>
                </a:solidFill>
                <a:latin typeface="Verdana"/>
              </a:rPr>
              <a:t>Vraag aan StUF Regiegroep:</a:t>
            </a: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kkoord op proces voor het opstellen en vaststellen van gestandaardiseerde testsets d.d.8 oktober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Hulpsheets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6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4:49:12Z</dcterms:created>
  <dc:creator>user</dc:creator>
  <dc:description/>
  <dc:language>en-US</dc:language>
  <cp:lastModifiedBy>Peter Klaver</cp:lastModifiedBy>
  <cp:lastPrinted>2011-01-16T10:24:48Z</cp:lastPrinted>
  <dcterms:modified xsi:type="dcterms:W3CDTF">2012-12-03T16:13:48Z</dcterms:modified>
  <cp:revision>329</cp:revision>
  <dc:subject/>
  <dc:title>Slide 1</dc:title>
</cp:coreProperties>
</file>